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6C1-A659-4025-9CDB-9280F00A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55F-5DCE-4000-B3E5-68635E0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D06-2DBC-4E43-AFC7-CADD73D1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DDE-BB88-4811-91D5-7D3B1BE9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F0F-F67D-45D0-A188-3A6D21A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595-1841-47B0-A1C2-3823EB1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BCF-DE3B-49B3-9A1F-49F3517C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D8E-1662-4107-91AE-2EF4F09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54C-0B7A-4E2E-AAB4-635AC7F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1BE-40F6-43A6-8FC2-CF849B6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101-350B-4169-9E01-7A49F8C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4A2-AAD8-4666-904F-916113B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41B0-60EE-4BBA-AE8E-F2C4281DDC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B11-DF4D-4445-AA48-C3A690AE7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Sense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Math their Way Assessment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utational 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origo or navigator screeners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6553080" y="579132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MBSP, Origo, Navigator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73392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utational Fluency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MBP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477120" y="8380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6172200" y="13716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5715000" y="1905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5410080" y="2438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4038480" y="609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Forw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3886200" y="838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-to-One Correspond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2743200" y="2438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ion of Ob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2438280" y="289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l Recog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3048120" y="2057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ervation of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35812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nt Recog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3352680" y="1676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Backw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2362320" y="3505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2819520" y="40384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4"/>
          <p:cNvSpPr/>
          <p:nvPr/>
        </p:nvSpPr>
        <p:spPr>
          <a:xfrm>
            <a:off x="3352680" y="4495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3809880" y="5105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5181480" y="3505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7"/>
          <p:cNvSpPr/>
          <p:nvPr/>
        </p:nvSpPr>
        <p:spPr>
          <a:xfrm>
            <a:off x="5410080" y="3962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8"/>
          <p:cNvSpPr/>
          <p:nvPr/>
        </p:nvSpPr>
        <p:spPr>
          <a:xfrm>
            <a:off x="5638680" y="4419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5867280" y="48769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0"/>
          <p:cNvSpPr/>
          <p:nvPr/>
        </p:nvSpPr>
        <p:spPr>
          <a:xfrm>
            <a:off x="6172200" y="5410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dcterms:modified xsi:type="dcterms:W3CDTF">2012-04-08T17:24:04Z</dcterms:modified>
  <cp:revision>36</cp:revision>
  <dc:subject/>
  <dc:title>Slide 1</dc:title>
</cp:coreProperties>
</file>